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B412-EFC7-42D5-92A0-EC509C191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FACB-ED5E-4661-BA80-1E91E74B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33FD-B12E-49E7-A9EF-54F1FF8A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9B3F-F312-4C9C-B15A-A4FFEC08B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2A47-C61F-4437-8EDE-4C500EFE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4A3D-98F4-46F6-9833-9B9D5665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339A-0BE4-4F7C-B553-9AB4B9A6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A8BA-702A-478C-A369-BD714CD4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BA5C-2735-4C13-93F2-A056FA1C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952E-ABF7-4466-8D1B-A1D48EFD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4BE9-2F32-429B-933E-A0867D57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F4C9-1E42-4DEC-A11E-22F4D123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9FF0F-A73B-4073-9CB9-1A14D089313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9920" y="40176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2 5</a:t>
            </a:r>
            <a:r>
              <a:rPr b="0" lang="en-US" sz="3200" spc="-1" strike="noStrike" baseline="33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students will be at Camp Don Lee next weekend. All students will go out on boats at the same time for 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714840" y="457200"/>
            <a:ext cx="3600360" cy="411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4574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Bryan's division word problem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33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2920" y="190296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434520"/>
            <a:ext cx="907092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90296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14:16:54Z</dcterms:created>
  <dc:creator/>
  <dc:description/>
  <dc:language>en-US</dc:language>
  <cp:lastModifiedBy/>
  <cp:revision>1</cp:revision>
  <dc:subject/>
  <dc:title/>
</cp:coreProperties>
</file>